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5C3F-C0CB-477A-BE82-4EEDF18321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7BA3-0765-40C3-BA8D-1F8C37C8C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885-62DA-43A7-B093-2EDC67C6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8A8-B833-4482-A19A-E1C386D3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DAEB7-A42C-49C7-868C-EF7829B2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AF7E1-828E-4D01-A484-C2412DA9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CE032-1831-4C7D-878C-0AAE00DB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E840E-DB4F-4A94-A664-060FCF5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090D4-3AC2-42F0-89B4-FB69CECA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3944A-1C30-45BD-A71F-7702C0CD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77B55-2C81-4EE3-BF7E-48138424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8F7A9-B9A2-4CCF-BEA6-DB6258CA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A037E-F95D-4AE1-95EF-EFD6DE2F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2CA-2F09-4651-B1F6-218C10A0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33C-C9FC-4419-8C2D-DB8ED63E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61DE-2FB1-48D6-9DFC-2F0FDF9F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39A9-53D3-4D1E-829E-EDB8FA34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4571-C6CE-43F1-B208-084F28DD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7077-0EC6-4A84-89FB-DC8F1B07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A89C-5909-449C-BFD8-C766786D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50A6-60B8-46FD-9F7D-7EC1E964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D6C1-DF6A-41BB-B630-0922EC9E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B00-CD19-4BD1-B4B7-208435BF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D878-0C01-4FCD-9BAC-61FD6A7E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8F45-3919-4845-B91F-B1085CCC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8F76-370A-4188-BDA3-7A1F1CB1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1E49-DB7F-489E-BF7F-8D6272CF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1FC3-9739-4EEF-A4C9-62D61D6D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2A88-6AFA-4659-A334-343ECA24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45EA-766B-4E24-8024-78EE8EC3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D2CA-4F51-4558-857A-469C51EF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C6AD-B12F-44B4-8CCF-FB634C7F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CD70-A53F-4FC9-9492-E7074B6A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C3B-1C95-477A-B03C-153145C4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1D91-A4AD-49B1-8788-460043E6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9E47-12E8-4666-9460-E3253FF4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74EC-3A57-4F5C-A546-FA58E9F9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28C2-D503-4DA3-93D3-79F514A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EEA6C-E7CE-4840-9B3E-08FAFEF0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9FFC4-A455-4350-9022-1169C2A5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86538-0F11-42DD-9D2D-258B706B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61552-D765-4F1F-9EB0-A1ABFC75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6CFBF-EE2C-4EA4-8157-525BE40F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A102C-E2D9-4986-8396-FAADAED6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E6F-741F-4B6D-9691-12210807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35C3-2966-4C1A-9B34-403E7E94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2E05-823D-4DD0-97AA-69DE55D2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84FA6-D328-45F2-A3C4-579E0C98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BABD-09E6-46B0-856C-9EF1551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84FC5-BBFE-4F02-91CB-B030205E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3FCD-D7B7-4594-8CD7-622BE010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44E1-99FC-4F9C-A371-F48823A6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EBF17-2514-4AAE-86B1-CE5FD716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4036B-0933-4ED5-A397-8EB6B03B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68E2-1A96-4BB3-9C93-5C84F033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882-6E68-483C-94F7-2281EF21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1D696-EDC6-4598-A2F0-6144BEF0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AC62F-A7CE-412A-9F34-EBC4E1F7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63936-35CB-4235-90A7-D2C80DF9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B161A-571E-4026-945D-69139390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86B7-E30F-4A7A-B6E1-BF0A4001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7E9FD-DA63-4FC6-B391-5EEE15A3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775F5-FF76-4222-A9F8-D1145035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6D86A-4773-4D9F-ABA3-0D5A433A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6BDA6-4B95-4A79-ADB4-2DC190D3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A7C2B-5569-4C38-ACC3-BD77327A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D34-FF11-4474-AB9D-168EC26B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C2770-9C57-48C9-AF27-DA4785ED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DAD65-1D2E-4A16-8B68-FEEC68A9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B6A8D-77EF-43EA-AE04-EC82A105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B23F4-1FCB-4425-9EAA-E736C053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BDD56-534E-45E6-A411-AD3D4B54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050C1-3C0D-48A9-8CFC-B9E1643B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3494-311A-4D99-A096-0CCEE2F3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2EBE0-9AB1-47FE-9108-DDF313BA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D87AC-00C7-4198-BDA8-2455CC6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15F12-7280-4028-B103-96D8D92D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A62-A804-4772-BC00-ABA5186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950DB-D110-4D22-A5BC-81300F73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DB553-EAB3-49EC-AA11-7B1D017A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5EE68-A4E9-4231-A590-23DC349F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5B13D-73BF-48DE-9D5C-84ECB663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9AF6D-5636-4439-96EF-72CF5C02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7B8E-1069-452B-9FC2-DBD6E92B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230E2-D729-4A3D-B601-BD21CE30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4F92E-F6EC-408F-8261-FCEBE234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C2E82-E4A6-45C3-B2B0-7D52952E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A6493-3CF6-4DA8-9EFE-A6A9F4D7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563-0250-4458-A511-BB9D4B8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0F8FF-C18A-478A-A817-0A5FA04D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30B74-8EB9-4454-B907-4ED67B4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1930C-CC1B-4CF3-A0F4-3F2D505D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8BDD7-3C2A-4F29-AAF8-F9D07A8B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DF229-C274-4D2C-9DD4-5FA3AE18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4617F-454F-4653-BF7A-F99C3E67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478BF-D54F-4058-B97C-1CCD1005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DEE74-1E5B-4F48-95F2-C4030256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57D0B-C872-4884-802D-AB53A3F6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749E5-156A-459F-B352-E1820514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86B-E1C2-4E2B-823F-52FC7056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C623A-8A9E-4E0C-9098-4CB6013E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4F40D-1F11-43B4-880E-B90B1745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79B75-303B-4324-AE73-A5D6D8F8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64C34-F1A0-4E3E-BFAC-0F3984BA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941A6-92A3-4849-8EA1-4741E659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ED9A9-7539-4FD4-AC24-A6BEBF58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C3E66-FF0F-4FAC-B1EE-30D7E7CF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068F6-5F2B-4205-B68F-C7F14293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A0485-E0BA-46C1-9814-8EF54DA8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182CB-7978-492A-8BB4-1378A755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4C93-B154-49B3-834B-A12C482E038F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1C4F-BB47-4AE6-A418-997DE3AF5F8C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909C-2E38-4A4E-8722-726A0AB0428D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444B-E065-4A91-A338-F1C4FDEBF9FF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0088-06BD-4AA1-BE65-8433B5FEA4C6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5C88-AAE7-499B-B7C6-F8D99974C553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AC80-8F11-4BC2-9BD4-98F3F3F945F1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0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0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132C-E501-49C8-92D6-69D5187A7E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AA25-4064-40EC-88DB-8502E75B8A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4"/>
          <p:cNvSpPr/>
          <p:nvPr/>
        </p:nvSpPr>
        <p:spPr>
          <a:xfrm>
            <a:off x="4067280" y="5805360"/>
            <a:ext cx="47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0033"/>
                </a:solidFill>
                <a:uFillTx/>
                <a:latin typeface="Arial"/>
              </a:rPr>
              <a:t>Тема: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 «Логарифмы и их свой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16000" y="191628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0033"/>
                </a:solidFill>
                <a:latin typeface="Harlow Solid Italic"/>
              </a:rPr>
              <a:t>игра     Карусель</a:t>
            </a:r>
            <a:r>
              <a:rPr b="0" lang="en-US" sz="7200" spc="-1" strike="noStrike">
                <a:solidFill>
                  <a:srgbClr val="330033"/>
                </a:solidFill>
                <a:latin typeface="Harlow Solid Ital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276720" y="3141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324000" y="5805360"/>
                <a:ext cx="9126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TextBox 34">
            <a:hlinkClick r:id="" action="ppaction://hlinkshowjump?jump=nextslide"/>
          </p:cNvPr>
          <p:cNvSpPr/>
          <p:nvPr/>
        </p:nvSpPr>
        <p:spPr>
          <a:xfrm>
            <a:off x="250920" y="29242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5">
            <a:hlinkClick r:id="rId1" action="ppaction://hlinksldjump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6">
            <a:hlinkClick r:id="" action="ppaction://hlinkshowjump?jump=nextslide"/>
          </p:cNvPr>
          <p:cNvSpPr/>
          <p:nvPr/>
        </p:nvSpPr>
        <p:spPr>
          <a:xfrm>
            <a:off x="1332000" y="105264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5"/>
              <p:cNvSpPr txBox="1"/>
              <p:nvPr/>
            </p:nvSpPr>
            <p:spPr>
              <a:xfrm>
                <a:off x="1619280" y="566100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6"/>
              <p:cNvSpPr txBox="1"/>
              <p:nvPr/>
            </p:nvSpPr>
            <p:spPr>
              <a:xfrm>
                <a:off x="179280" y="4379760"/>
                <a:ext cx="8589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43">
            <a:hlinkClick r:id="" action="ppaction://hlinkshowjump?jump=nextslide"/>
          </p:cNvPr>
          <p:cNvSpPr/>
          <p:nvPr/>
        </p:nvSpPr>
        <p:spPr>
          <a:xfrm>
            <a:off x="971640" y="2421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7"/>
              <p:cNvSpPr txBox="1"/>
              <p:nvPr/>
            </p:nvSpPr>
            <p:spPr>
              <a:xfrm>
                <a:off x="1258920" y="18446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2"/>
              <p:cNvSpPr txBox="1"/>
              <p:nvPr/>
            </p:nvSpPr>
            <p:spPr>
              <a:xfrm>
                <a:off x="5072040" y="3071880"/>
                <a:ext cx="1500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6" name="TextBox 31"/>
          <p:cNvSpPr/>
          <p:nvPr/>
        </p:nvSpPr>
        <p:spPr>
          <a:xfrm>
            <a:off x="395280" y="26028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250920" y="558972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9" name="TextBox 34">
            <a:hlinkClick r:id="" action="ppaction://hlinkshowjump?jump=nextslide"/>
          </p:cNvPr>
          <p:cNvSpPr/>
          <p:nvPr/>
        </p:nvSpPr>
        <p:spPr>
          <a:xfrm>
            <a:off x="32400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6">
            <a:hlinkClick r:id="rId1" action="ppaction://hlinksldjump"/>
          </p:cNvPr>
          <p:cNvSpPr/>
          <p:nvPr/>
        </p:nvSpPr>
        <p:spPr>
          <a:xfrm>
            <a:off x="1258920" y="9079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7">
            <a:hlinkClick r:id="" action="ppaction://hlinkshowjump?jump=nextslide"/>
          </p:cNvPr>
          <p:cNvSpPr/>
          <p:nvPr/>
        </p:nvSpPr>
        <p:spPr>
          <a:xfrm>
            <a:off x="428760" y="24354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5"/>
              <p:cNvSpPr txBox="1"/>
              <p:nvPr/>
            </p:nvSpPr>
            <p:spPr>
              <a:xfrm>
                <a:off x="1547640" y="551664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6"/>
              <p:cNvSpPr txBox="1"/>
              <p:nvPr/>
            </p:nvSpPr>
            <p:spPr>
              <a:xfrm>
                <a:off x="179280" y="443700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6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7"/>
              <p:cNvSpPr txBox="1"/>
              <p:nvPr/>
            </p:nvSpPr>
            <p:spPr>
              <a:xfrm>
                <a:off x="140328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10"/>
              <p:cNvSpPr txBox="1"/>
              <p:nvPr/>
            </p:nvSpPr>
            <p:spPr>
              <a:xfrm>
                <a:off x="7572240" y="3214800"/>
                <a:ext cx="116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3"/>
              <p:cNvSpPr txBox="1"/>
              <p:nvPr/>
            </p:nvSpPr>
            <p:spPr>
              <a:xfrm>
                <a:off x="5000760" y="3071880"/>
                <a:ext cx="1585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3"/>
              <p:cNvSpPr txBox="1"/>
              <p:nvPr/>
            </p:nvSpPr>
            <p:spPr>
              <a:xfrm>
                <a:off x="250920" y="566100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9" name="TextBox 34">
            <a:hlinkClick r:id="" action="ppaction://hlinkshowjump?jump=nextslide"/>
          </p:cNvPr>
          <p:cNvSpPr/>
          <p:nvPr/>
        </p:nvSpPr>
        <p:spPr>
          <a:xfrm>
            <a:off x="250920" y="314172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4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7">
            <a:hlinkClick r:id="rId1" action="ppaction://hlinksldjump"/>
          </p:cNvPr>
          <p:cNvSpPr/>
          <p:nvPr/>
        </p:nvSpPr>
        <p:spPr>
          <a:xfrm>
            <a:off x="25092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1547640" y="558972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4">
            <a:hlinkClick r:id="" action="ppaction://hlinkshowjump?jump=nextslide"/>
          </p:cNvPr>
          <p:cNvSpPr/>
          <p:nvPr/>
        </p:nvSpPr>
        <p:spPr>
          <a:xfrm>
            <a:off x="179280" y="18446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3"/>
              <p:cNvSpPr txBox="1"/>
              <p:nvPr/>
            </p:nvSpPr>
            <p:spPr>
              <a:xfrm>
                <a:off x="3571920" y="4944960"/>
                <a:ext cx="11430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4"/>
              <p:cNvSpPr txBox="1"/>
              <p:nvPr/>
            </p:nvSpPr>
            <p:spPr>
              <a:xfrm>
                <a:off x="5000760" y="3214800"/>
                <a:ext cx="15714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3"/>
              <p:cNvSpPr txBox="1"/>
              <p:nvPr/>
            </p:nvSpPr>
            <p:spPr>
              <a:xfrm>
                <a:off x="250920" y="5805360"/>
                <a:ext cx="9126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0" name="TextBox 34">
            <a:hlinkClick r:id="" action="ppaction://hlinkshowjump?jump=nextslide"/>
          </p:cNvPr>
          <p:cNvSpPr/>
          <p:nvPr/>
        </p:nvSpPr>
        <p:spPr>
          <a:xfrm>
            <a:off x="179280" y="299736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5">
            <a:hlinkClick r:id="" action="ppaction://hlinkshowjump?jump=nextslide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6">
            <a:hlinkClick r:id="" action="ppaction://hlinkshowjump?jump=nextslide"/>
          </p:cNvPr>
          <p:cNvSpPr/>
          <p:nvPr/>
        </p:nvSpPr>
        <p:spPr>
          <a:xfrm>
            <a:off x="135720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6"/>
              <p:cNvSpPr txBox="1"/>
              <p:nvPr/>
            </p:nvSpPr>
            <p:spPr>
              <a:xfrm>
                <a:off x="179280" y="450864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13"/>
              <p:cNvSpPr txBox="1"/>
              <p:nvPr/>
            </p:nvSpPr>
            <p:spPr>
              <a:xfrm>
                <a:off x="3571920" y="4944960"/>
                <a:ext cx="11430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14"/>
              <p:cNvSpPr txBox="1"/>
              <p:nvPr/>
            </p:nvSpPr>
            <p:spPr>
              <a:xfrm>
                <a:off x="2857680" y="3214800"/>
                <a:ext cx="11430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15"/>
              <p:cNvSpPr txBox="1"/>
              <p:nvPr/>
            </p:nvSpPr>
            <p:spPr>
              <a:xfrm>
                <a:off x="5143680" y="3000240"/>
                <a:ext cx="12855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Прямая соединительная линия 6"/>
          <p:cNvSpPr/>
          <p:nvPr/>
        </p:nvSpPr>
        <p:spPr>
          <a:xfrm flipV="1">
            <a:off x="4572000" y="1714680"/>
            <a:ext cx="144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ая соединительная линия 7"/>
          <p:cNvSpPr/>
          <p:nvPr/>
        </p:nvSpPr>
        <p:spPr>
          <a:xfrm flipV="1">
            <a:off x="6000120" y="1500120"/>
            <a:ext cx="57132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ая соединительная линия 9"/>
          <p:cNvSpPr/>
          <p:nvPr/>
        </p:nvSpPr>
        <p:spPr>
          <a:xfrm flipV="1">
            <a:off x="628668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ая соединительная линия 12"/>
          <p:cNvSpPr/>
          <p:nvPr/>
        </p:nvSpPr>
        <p:spPr>
          <a:xfrm flipV="1">
            <a:off x="4572000" y="4428720"/>
            <a:ext cx="144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ая соединительная линия 14"/>
          <p:cNvSpPr/>
          <p:nvPr/>
        </p:nvSpPr>
        <p:spPr>
          <a:xfrm flipV="1">
            <a:off x="2500200" y="46432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ая соединительная линия 17"/>
          <p:cNvSpPr/>
          <p:nvPr/>
        </p:nvSpPr>
        <p:spPr>
          <a:xfrm flipV="1">
            <a:off x="192888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ая соединительная линия 18"/>
          <p:cNvSpPr/>
          <p:nvPr/>
        </p:nvSpPr>
        <p:spPr>
          <a:xfrm>
            <a:off x="6143760" y="4714920"/>
            <a:ext cx="64296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ая соединительная линия 20"/>
          <p:cNvSpPr/>
          <p:nvPr/>
        </p:nvSpPr>
        <p:spPr>
          <a:xfrm>
            <a:off x="2428920" y="157176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22"/>
          <p:cNvSpPr/>
          <p:nvPr/>
        </p:nvSpPr>
        <p:spPr>
          <a:xfrm>
            <a:off x="642924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23"/>
          <p:cNvSpPr/>
          <p:nvPr/>
        </p:nvSpPr>
        <p:spPr>
          <a:xfrm>
            <a:off x="3929040" y="35712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24"/>
          <p:cNvSpPr/>
          <p:nvPr/>
        </p:nvSpPr>
        <p:spPr>
          <a:xfrm>
            <a:off x="135720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25"/>
          <p:cNvSpPr/>
          <p:nvPr/>
        </p:nvSpPr>
        <p:spPr>
          <a:xfrm>
            <a:off x="72867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26"/>
          <p:cNvSpPr/>
          <p:nvPr/>
        </p:nvSpPr>
        <p:spPr>
          <a:xfrm>
            <a:off x="500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27"/>
          <p:cNvSpPr/>
          <p:nvPr/>
        </p:nvSpPr>
        <p:spPr>
          <a:xfrm>
            <a:off x="66438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28"/>
          <p:cNvSpPr/>
          <p:nvPr/>
        </p:nvSpPr>
        <p:spPr>
          <a:xfrm>
            <a:off x="3929040" y="52862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29"/>
          <p:cNvSpPr/>
          <p:nvPr/>
        </p:nvSpPr>
        <p:spPr>
          <a:xfrm>
            <a:off x="13572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8"/>
              <p:cNvSpPr txBox="1"/>
              <p:nvPr/>
            </p:nvSpPr>
            <p:spPr>
              <a:xfrm>
                <a:off x="407196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Object 9"/>
              <p:cNvSpPr txBox="1"/>
              <p:nvPr/>
            </p:nvSpPr>
            <p:spPr>
              <a:xfrm>
                <a:off x="6572160" y="714240"/>
                <a:ext cx="1000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10"/>
              <p:cNvSpPr txBox="1"/>
              <p:nvPr/>
            </p:nvSpPr>
            <p:spPr>
              <a:xfrm>
                <a:off x="73328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11"/>
              <p:cNvSpPr txBox="1"/>
              <p:nvPr/>
            </p:nvSpPr>
            <p:spPr>
              <a:xfrm>
                <a:off x="6715080" y="5748480"/>
                <a:ext cx="1214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12"/>
              <p:cNvSpPr txBox="1"/>
              <p:nvPr/>
            </p:nvSpPr>
            <p:spPr>
              <a:xfrm>
                <a:off x="4071960" y="5756400"/>
                <a:ext cx="1071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13"/>
              <p:cNvSpPr txBox="1"/>
              <p:nvPr/>
            </p:nvSpPr>
            <p:spPr>
              <a:xfrm>
                <a:off x="1428840" y="5659560"/>
                <a:ext cx="11430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14"/>
              <p:cNvSpPr txBox="1"/>
              <p:nvPr/>
            </p:nvSpPr>
            <p:spPr>
              <a:xfrm>
                <a:off x="571680" y="3214800"/>
                <a:ext cx="11430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5"/>
              <p:cNvSpPr txBox="1"/>
              <p:nvPr/>
            </p:nvSpPr>
            <p:spPr>
              <a:xfrm>
                <a:off x="1500120" y="571680"/>
                <a:ext cx="995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5" name="TextBox 51">
            <a:hlinkClick r:id="" action="ppaction://hlinkshowjump?jump=nextslide"/>
          </p:cNvPr>
          <p:cNvSpPr/>
          <p:nvPr/>
        </p:nvSpPr>
        <p:spPr>
          <a:xfrm>
            <a:off x="2857680" y="292896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ФИНИ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Устно или письменно выполнит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Выполнение задания начните со  ст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Найдите полученный ответ слева в столбце и нажмите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Если ответ окажется правильным, то во внутреннем круге появится нов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2"/>
              <p:cNvSpPr txBox="1"/>
              <p:nvPr/>
            </p:nvSpPr>
            <p:spPr>
              <a:xfrm>
                <a:off x="5214960" y="3286080"/>
                <a:ext cx="1111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250920" y="566100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TextBox 34">
            <a:hlinkClick r:id="" action="ppaction://hlinkshowjump?jump=nextslide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5">
            <a:hlinkClick r:id="" action="ppaction://hlinkshowjump?jump=nextslide"/>
          </p:cNvPr>
          <p:cNvSpPr/>
          <p:nvPr/>
        </p:nvSpPr>
        <p:spPr>
          <a:xfrm>
            <a:off x="1476360" y="45086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5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6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7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TextBox 41">
            <a:hlinkClick r:id="" action="ppaction://hlinkshowjump?jump=nextslide"/>
          </p:cNvPr>
          <p:cNvSpPr/>
          <p:nvPr/>
        </p:nvSpPr>
        <p:spPr>
          <a:xfrm>
            <a:off x="111600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8"/>
              <p:cNvSpPr txBox="1"/>
              <p:nvPr/>
            </p:nvSpPr>
            <p:spPr>
              <a:xfrm>
                <a:off x="1233360" y="16430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324000" y="631800"/>
                <a:ext cx="6048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2">
            <a:hlinkClick r:id="rId1" action="ppaction://hlinksldjump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4"/>
              <p:cNvSpPr txBox="1"/>
              <p:nvPr/>
            </p:nvSpPr>
            <p:spPr>
              <a:xfrm>
                <a:off x="250920" y="573264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TextBox 34">
            <a:hlinkClick r:id="" action="ppaction://hlinkshowjump?jump=nextslide"/>
          </p:cNvPr>
          <p:cNvSpPr/>
          <p:nvPr/>
        </p:nvSpPr>
        <p:spPr>
          <a:xfrm>
            <a:off x="179280" y="306864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5">
            <a:hlinkClick r:id="" action="ppaction://hlinkshowjump?jump=nextslide"/>
          </p:cNvPr>
          <p:cNvSpPr/>
          <p:nvPr/>
        </p:nvSpPr>
        <p:spPr>
          <a:xfrm>
            <a:off x="1547640" y="486900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6">
            <a:hlinkClick r:id="" action="ppaction://hlinkshowjump?jump=nextslide"/>
          </p:cNvPr>
          <p:cNvSpPr/>
          <p:nvPr/>
        </p:nvSpPr>
        <p:spPr>
          <a:xfrm>
            <a:off x="1357200" y="836640"/>
            <a:ext cx="15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7">
            <a:hlinkClick r:id="" action="ppaction://hlinkshowjump?jump=nextslide"/>
          </p:cNvPr>
          <p:cNvSpPr/>
          <p:nvPr/>
        </p:nvSpPr>
        <p:spPr>
          <a:xfrm>
            <a:off x="250920" y="256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5"/>
              <p:cNvSpPr txBox="1"/>
              <p:nvPr/>
            </p:nvSpPr>
            <p:spPr>
              <a:xfrm>
                <a:off x="1476360" y="4149720"/>
                <a:ext cx="909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6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7"/>
              <p:cNvSpPr txBox="1"/>
              <p:nvPr/>
            </p:nvSpPr>
            <p:spPr>
              <a:xfrm>
                <a:off x="250920" y="4724280"/>
                <a:ext cx="714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6" name="TextBox 41">
            <a:hlinkClick r:id="" action="ppaction://hlinkshowjump?jump=nextslide"/>
          </p:cNvPr>
          <p:cNvSpPr/>
          <p:nvPr/>
        </p:nvSpPr>
        <p:spPr>
          <a:xfrm>
            <a:off x="900000" y="3141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42">
            <a:hlinkClick r:id="" action="ppaction://hlinkshowjump?jump=nextslide"/>
          </p:cNvPr>
          <p:cNvSpPr/>
          <p:nvPr/>
        </p:nvSpPr>
        <p:spPr>
          <a:xfrm>
            <a:off x="179280" y="40053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3">
            <a:hlinkClick r:id="" action="ppaction://hlinkshowjump?jump=nextslide"/>
          </p:cNvPr>
          <p:cNvSpPr/>
          <p:nvPr/>
        </p:nvSpPr>
        <p:spPr>
          <a:xfrm>
            <a:off x="104292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4">
            <a:hlinkClick r:id="" action="ppaction://hlinkshowjump?jump=nextslide"/>
          </p:cNvPr>
          <p:cNvSpPr/>
          <p:nvPr/>
        </p:nvSpPr>
        <p:spPr>
          <a:xfrm>
            <a:off x="179280" y="1857240"/>
            <a:ext cx="12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8"/>
              <p:cNvSpPr txBox="1"/>
              <p:nvPr/>
            </p:nvSpPr>
            <p:spPr>
              <a:xfrm>
                <a:off x="1258920" y="1700280"/>
                <a:ext cx="13683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9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0"/>
              <p:cNvSpPr txBox="1"/>
              <p:nvPr/>
            </p:nvSpPr>
            <p:spPr>
              <a:xfrm>
                <a:off x="5072040" y="3071880"/>
                <a:ext cx="1428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179280" y="5732640"/>
                <a:ext cx="912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5" name="TextBox 34"/>
          <p:cNvSpPr/>
          <p:nvPr/>
        </p:nvSpPr>
        <p:spPr>
          <a:xfrm>
            <a:off x="25092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6">
            <a:hlinkClick r:id="" action="ppaction://hlinkshowjump?jump=nextslide"/>
          </p:cNvPr>
          <p:cNvSpPr/>
          <p:nvPr/>
        </p:nvSpPr>
        <p:spPr>
          <a:xfrm>
            <a:off x="128592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7">
            <a:hlinkClick r:id="" action="ppaction://hlinkshowjump?jump=nextslide"/>
          </p:cNvPr>
          <p:cNvSpPr/>
          <p:nvPr/>
        </p:nvSpPr>
        <p:spPr>
          <a:xfrm>
            <a:off x="179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2" name="TextBox 41">
            <a:hlinkClick r:id="" action="ppaction://hlinkshowjump?jump=nextslide"/>
          </p:cNvPr>
          <p:cNvSpPr/>
          <p:nvPr/>
        </p:nvSpPr>
        <p:spPr>
          <a:xfrm>
            <a:off x="971640" y="3068640"/>
            <a:ext cx="19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7"/>
              <p:cNvSpPr txBox="1"/>
              <p:nvPr/>
            </p:nvSpPr>
            <p:spPr>
              <a:xfrm>
                <a:off x="1187280" y="1700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0"/>
              <p:cNvSpPr txBox="1"/>
              <p:nvPr/>
            </p:nvSpPr>
            <p:spPr>
              <a:xfrm>
                <a:off x="5000760" y="3143160"/>
                <a:ext cx="15714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9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2">
            <a:hlinkClick r:id="" action="ppaction://hlinkshowjump?jump=nextslide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395280" y="5805360"/>
                <a:ext cx="912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TextBox 34">
            <a:hlinkClick r:id="rId1" action="ppaction://hlinksldjump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7">
            <a:hlinkClick r:id="" action="ppaction://hlinkshowjump?jump=nextslide"/>
          </p:cNvPr>
          <p:cNvSpPr/>
          <p:nvPr/>
        </p:nvSpPr>
        <p:spPr>
          <a:xfrm>
            <a:off x="179280" y="2565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5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6"/>
              <p:cNvSpPr txBox="1"/>
              <p:nvPr/>
            </p:nvSpPr>
            <p:spPr>
              <a:xfrm>
                <a:off x="250920" y="4581360"/>
                <a:ext cx="7142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9" name="TextBox 41">
            <a:hlinkClick r:id="" action="ppaction://hlinkshowjump?jump=nextslide"/>
          </p:cNvPr>
          <p:cNvSpPr/>
          <p:nvPr/>
        </p:nvSpPr>
        <p:spPr>
          <a:xfrm>
            <a:off x="97164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4">
            <a:hlinkClick r:id="" action="ppaction://hlinkshowjump?jump=nextslide"/>
          </p:cNvPr>
          <p:cNvSpPr/>
          <p:nvPr/>
        </p:nvSpPr>
        <p:spPr>
          <a:xfrm>
            <a:off x="179280" y="19890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7"/>
              <p:cNvSpPr txBox="1"/>
              <p:nvPr/>
            </p:nvSpPr>
            <p:spPr>
              <a:xfrm>
                <a:off x="1332000" y="1916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7572240" y="3214800"/>
                <a:ext cx="116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5013360" y="3143160"/>
                <a:ext cx="1487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16:04Z</dcterms:created>
  <dc:creator>1</dc:creator>
  <dc:description/>
  <dc:language>en-US</dc:language>
  <cp:lastModifiedBy>Попов Леонид</cp:lastModifiedBy>
  <dcterms:modified xsi:type="dcterms:W3CDTF">2012-08-27T13:22:42Z</dcterms:modified>
  <cp:revision>36</cp:revision>
  <dc:subject/>
  <dc:title>Карусель</dc:title>
</cp:coreProperties>
</file>